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BAA3-9DDB-4D25-9D34-030A77199E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15"/>
          <p:cNvSpPr/>
          <p:nvPr/>
        </p:nvSpPr>
        <p:spPr>
          <a:xfrm>
            <a:off x="152280" y="6172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cript and Narration: 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6"/>
          <p:cNvSpPr/>
          <p:nvPr/>
        </p:nvSpPr>
        <p:spPr>
          <a:xfrm>
            <a:off x="4045320" y="6172200"/>
            <a:ext cx="222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rupal 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5B85-2792-42F2-9F4E-3F6C063934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rupal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duces Drupal and its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183840" y="4002120"/>
            <a:ext cx="277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 and Narr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hul Sing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mbibe Technologies (P) L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1360" y="51166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28 Nov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81360" y="7617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–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 as a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09680" y="76176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Sq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rupal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9:40Z</dcterms:modified>
  <cp:revision>81</cp:revision>
  <dc:subject/>
  <dc:title>Slide 1</dc:title>
</cp:coreProperties>
</file>